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6DF61-B950-422D-8E32-28D13CD8A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40D1-ECF3-49DD-9360-98D42DC2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F1A96-DAC7-4B7B-852E-3AD5D6A07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9F679-A79B-4EA2-81A6-1DCD90756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AA626-3F64-419E-B04A-49AD29C0A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A495E-5610-41F2-8704-C2E8612C5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C9A9C-760A-498D-8A46-677A89265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2E81F-60E5-42C0-A302-3A5F7774F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5637-A9A0-4669-A305-3C137E47E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EE0E1-C5B5-44DB-AB2E-CB11D77C5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01147-B6C2-46A5-8FD7-ABDF642F3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831F1-B2F5-441C-9284-698E50484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2FF62-C73A-4E1D-A3EE-69052A055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F7BC1-B452-4A48-8DC3-D5D78EE5B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0A037-1CD2-4244-8666-29956706F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F9DE0-B9F5-4040-B73C-C154CEEE0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E584A-FCCF-4E54-8EB2-68E58ACCB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5AAD-ED52-4C85-A91B-694D6C573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5C53-142F-4BA6-9D9E-73CFFB50E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2F55-B9E2-442D-B23B-BCB0CB2F0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8D3D-78E7-47F9-851B-28F926785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39C7-B805-488A-990D-77E65AC0E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55F9C-4E52-4B40-AC5C-8BC44C92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F7E6-BA66-4601-AB13-013C426AC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57D2-194C-4C1F-9BAD-208E40F6D7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B8F1-11B1-4A85-A4FA-1F2FD074A4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Times New Roman"/>
              </a:rPr>
              <a:t>Women In the Revolution</a:t>
            </a:r>
            <a:br>
              <a:rPr sz="4400"/>
            </a:br>
            <a:r>
              <a:rPr b="0" i="1" lang="en-US" sz="4400" spc="-1" strike="noStrike">
                <a:solidFill>
                  <a:srgbClr val="0066ff"/>
                </a:solidFill>
                <a:latin typeface="Times New Roman"/>
              </a:rPr>
              <a:t>Mary Beth Norton</a:t>
            </a: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1371600" y="3581280"/>
            <a:ext cx="6400800" cy="1447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y: Ashley Willey,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Robby Palmer, Casey Price, &amp; Sara Betts</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Epidemic Diseas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a:t>
            </a:r>
            <a:r>
              <a:rPr b="0" lang="en-US" sz="3200" spc="-1" strike="noStrike">
                <a:solidFill>
                  <a:srgbClr val="0066ff"/>
                </a:solidFill>
                <a:latin typeface="Abadi MT Condensed Light"/>
                <a:ea typeface="Times New Roman"/>
              </a:rPr>
              <a:t>The unhealthy conditions of the besieged city had helped to incubate both smallpox and dysentery, and an epidemic of the latter had already swept the Massachusetts countryside.”  </a:t>
            </a:r>
            <a:endParaRPr b="0" lang="en-US" sz="3200" spc="-1" strike="noStrike">
              <a:solidFill>
                <a:srgbClr val="ffffff"/>
              </a:solidFill>
              <a:latin typeface="Times New Roman"/>
            </a:endParaRPr>
          </a:p>
          <a:p>
            <a:pPr marL="332640" indent="-33264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Women had to make the choice of having or not having herself and her children inoculate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50000">
              <a:srgbClr val="ff33cc"/>
            </a:gs>
            <a:gs pos="100000">
              <a:srgbClr val="ff33cc"/>
            </a:gs>
          </a:gsLst>
          <a:lin ang="27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badi MT Condensed Light"/>
                <a:ea typeface="Times New Roman"/>
              </a:rPr>
              <a:t>Ra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41240"/>
            <a:ext cx="7772400" cy="4454280"/>
          </a:xfrm>
          <a:prstGeom prst="rect">
            <a:avLst/>
          </a:prstGeom>
          <a:noFill/>
          <a:ln w="0">
            <a:noFill/>
          </a:ln>
        </p:spPr>
        <p:txBody>
          <a:bodyPr anchor="t">
            <a:normAutofit fontScale="89000"/>
          </a:bodyPr>
          <a:p>
            <a:pPr marL="305280" indent="-3052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Times New Roman"/>
              </a:rPr>
              <a:t>“</a:t>
            </a:r>
            <a:r>
              <a:rPr b="1" lang="en-US" sz="2400" spc="-1" strike="noStrike">
                <a:solidFill>
                  <a:srgbClr val="0066ff"/>
                </a:solidFill>
                <a:latin typeface="Arial Unicode MS"/>
                <a:ea typeface="Times New Roman"/>
              </a:rPr>
              <a:t>In addition to carrying small pox, the armies brought a specific terror to American women: the fear of rape.” </a:t>
            </a:r>
            <a:endParaRPr b="0" lang="en-US" sz="2400" spc="-1" strike="noStrike">
              <a:solidFill>
                <a:srgbClr val="ffffff"/>
              </a:solidFill>
              <a:latin typeface="Times New Roman"/>
            </a:endParaRPr>
          </a:p>
          <a:p>
            <a:pPr marL="305280" indent="-3052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Times New Roman"/>
              </a:rPr>
              <a:t>Diver soldiers repeatedly raped 13-year-old Abigail for three days. Later she and her friend’s, 15 year old sister, Elizabeth was forced to go to the camp. They were repeatedly assaulted until rescued by a soldier.  </a:t>
            </a:r>
            <a:endParaRPr b="0" lang="en-US" sz="2400" spc="-1" strike="noStrike">
              <a:solidFill>
                <a:srgbClr val="ffffff"/>
              </a:solidFill>
              <a:latin typeface="Times New Roman"/>
            </a:endParaRPr>
          </a:p>
          <a:p>
            <a:pPr marL="305280" indent="-3052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Unicode MS"/>
                <a:ea typeface="Times New Roman"/>
              </a:rPr>
              <a:t>“ </a:t>
            </a:r>
            <a:r>
              <a:rPr b="1" lang="en-US" sz="2400" spc="-1" strike="noStrike">
                <a:solidFill>
                  <a:srgbClr val="0066ff"/>
                </a:solidFill>
                <a:latin typeface="Arial Unicode MS"/>
                <a:ea typeface="Times New Roman"/>
              </a:rPr>
              <a:t>Eliza Wilkinson [recounted that] the whole world appeared to me as a theatre, where nothing was acted but cruelty, bloodshed, and oppression; where neither age nor sex escaped the horrors of injustice and violence; where lives and property of the innocent and inoffensive were in continual danger, and the lawless power ranged at large.”</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ff"/>
                </a:solidFill>
                <a:latin typeface="Abadi MT Condensed Light"/>
                <a:ea typeface="Times New Roman"/>
              </a:rPr>
              <a:t>For slaves this time was a period of unprecedented opportunity.</a:t>
            </a:r>
            <a:r>
              <a:rPr b="0" lang="en-US" sz="4400" spc="-1" strike="noStrike">
                <a:solidFill>
                  <a:srgbClr val="ffff00"/>
                </a:solidFill>
                <a:latin typeface="Abadi MT Condensed Light"/>
                <a:ea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badi MT Condensed Light"/>
                <a:ea typeface="Times New Roman"/>
              </a:rPr>
              <a:t>“</a:t>
            </a:r>
            <a:r>
              <a:rPr b="0" lang="en-US" sz="2800" spc="-1" strike="noStrike">
                <a:solidFill>
                  <a:srgbClr val="0066ff"/>
                </a:solidFill>
                <a:latin typeface="Abadi MT Condensed Light"/>
                <a:ea typeface="Times New Roman"/>
              </a:rPr>
              <a:t>The British soldiers held out to black men and women alike the prospect of winning their freedom from bondage.”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badi MT Condensed Light"/>
                <a:ea typeface="Times New Roman"/>
              </a:rPr>
              <a:t> “ </a:t>
            </a:r>
            <a:r>
              <a:rPr b="0" lang="en-US" sz="2800" spc="-1" strike="noStrike">
                <a:solidFill>
                  <a:srgbClr val="0066ff"/>
                </a:solidFill>
                <a:latin typeface="Abadi MT Condensed Light"/>
                <a:ea typeface="Times New Roman"/>
              </a:rPr>
              <a:t>No sex or age restriction limited the offer to adult men alone, and so women fled to red coat encampments, often taking their children with the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badi MT Condensed Light"/>
                <a:ea typeface="Times New Roman"/>
              </a:rPr>
              <a:t>Out of 2,863 people whose sex is specified on the embarkation lists, 42.3 % were women and 57.7 percent were me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307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66ff"/>
                </a:solidFill>
                <a:latin typeface="Abadi MT Condensed Light"/>
                <a:ea typeface="Times New Roman"/>
              </a:rPr>
              <a:t>Conclusion</a:t>
            </a:r>
            <a:br>
              <a:rPr sz="6600"/>
            </a:br>
            <a:endParaRPr b="0" lang="en-US" sz="6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305920" cy="2011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badi MT Condensed Light"/>
                <a:ea typeface="Times New Roman"/>
              </a:rPr>
              <a:t>The war dissolved some of the distinctions between masculine and feminine traits.</a:t>
            </a:r>
            <a:r>
              <a:rPr b="0" lang="en-US" sz="4400" spc="-1" strike="noStrike">
                <a:solidFill>
                  <a:srgbClr val="ffff00"/>
                </a:solidFill>
                <a:latin typeface="Abadi MT Condensed Light"/>
                <a:ea typeface="Times New Roman"/>
              </a:rPr>
              <a:t> </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2390760"/>
            <a:ext cx="7772400" cy="370512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a:t>
            </a:r>
            <a:r>
              <a:rPr b="0" lang="en-US" sz="2800" spc="-1" strike="noStrike">
                <a:solidFill>
                  <a:srgbClr val="ffffff"/>
                </a:solidFill>
                <a:latin typeface="Abadi MT Condensed Light"/>
                <a:ea typeface="Times New Roman"/>
              </a:rPr>
              <a:t>The realization that the had been equally affected by the war led some women to expect equal treatment thereafter, and, on occasion, to apply their own circumstances the general principles promulgated by the revolutionaries.” </a:t>
            </a:r>
            <a:endParaRPr b="0" lang="en-US" sz="28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Rachel Wells</a:t>
            </a:r>
            <a:endParaRPr b="0" lang="en-US" sz="28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Mary Willing Byr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Abigail Adam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3611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badi MT Condensed Light"/>
              </a:rPr>
              <a:t>The End</a:t>
            </a:r>
            <a:endParaRPr b="0" lang="en-US" sz="6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0066"/>
            </a:gs>
          </a:gsLst>
          <a:lin ang="27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Thesi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5" name="PlaceHolder 2"/>
          <p:cNvSpPr>
            <a:spLocks noGrp="1"/>
          </p:cNvSpPr>
          <p:nvPr>
            <p:ph type="subTitle"/>
          </p:nvPr>
        </p:nvSpPr>
        <p:spPr>
          <a:xfrm>
            <a:off x="1371600" y="2514600"/>
            <a:ext cx="6400800" cy="31240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 </a:t>
            </a:r>
            <a:r>
              <a:rPr b="0" lang="en-US" sz="3200" spc="-1" strike="noStrike">
                <a:solidFill>
                  <a:srgbClr val="0066ff"/>
                </a:solidFill>
                <a:latin typeface="Abadi MT Condensed Light"/>
                <a:ea typeface="Times New Roman"/>
              </a:rPr>
              <a:t>many white women gained a new appreciation of their capacity and capability of their sex in general as they learned to handle un familiar tasks. For black women too the war brought changes.”</a:t>
            </a:r>
            <a:r>
              <a:rPr b="0" lang="en-US" sz="3200" spc="-1" strike="noStrike">
                <a:solidFill>
                  <a:srgbClr val="ffffff"/>
                </a:solidFill>
                <a:latin typeface="Abadi MT Condensed Light"/>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460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 </a:t>
            </a:r>
            <a:r>
              <a:rPr b="0" i="1" lang="en-US" sz="4400" spc="-1" strike="noStrike">
                <a:solidFill>
                  <a:srgbClr val="0066ff"/>
                </a:solidFill>
                <a:latin typeface="Abadi MT Condensed Light"/>
                <a:ea typeface="Times New Roman"/>
              </a:rPr>
              <a:t>White women’s experiences with wartime disruptions varied according to where they lived.”</a:t>
            </a:r>
            <a:br>
              <a:rPr sz="4400"/>
            </a:b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33cc"/>
            </a:gs>
            <a:gs pos="100000">
              <a:srgbClr val="00ff00"/>
            </a:gs>
          </a:gsLst>
          <a:lin ang="27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630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ea typeface="Times New Roman"/>
              </a:rPr>
              <a:t>Similarities</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2541240"/>
            <a:ext cx="7772400" cy="35542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Northern and southern women responded similarly to things such as the looming threat of invasion by enemy troops, the incidence of disease, or the opportunity to accompany their husbands to the army. </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ff33cc"/>
            </a:gs>
            <a:gs pos="100000">
              <a:srgbClr val="ff99cc"/>
            </a:gs>
          </a:gsLst>
          <a:lin ang="189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rPr>
              <a:t>Differences</a:t>
            </a: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New England Colonies:</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 </a:t>
            </a:r>
            <a:r>
              <a:rPr b="0" lang="en-US" sz="3200" spc="-1" strike="noStrike">
                <a:solidFill>
                  <a:srgbClr val="0066ff"/>
                </a:solidFill>
                <a:latin typeface="Abadi MT Condensed Light"/>
                <a:ea typeface="Times New Roman"/>
              </a:rPr>
              <a:t>Had to cope with turmoil first. </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After the British evacuated Boston in 1776 the northern section of the country was relatively free of armed conflict.</a:t>
            </a:r>
            <a:r>
              <a:rPr b="0" lang="en-US" sz="3200" spc="-1" strike="noStrike">
                <a:solidFill>
                  <a:srgbClr val="0066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rPr>
              <a:t>Differences Con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Middle Colonies:</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Many families had no respite from the dangers of warfare for several years. </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Continuing presence of the British Army in NYC from July 1776 – November 1783</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Redcoats in Philadelphia from 1777-1778</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00ff"/>
            </a:gs>
          </a:gsLst>
          <a:lin ang="189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ff"/>
                </a:solidFill>
                <a:latin typeface="Abadi MT Condensed Light"/>
              </a:rPr>
              <a:t>Differences Cont.</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Southern Colonies: </a:t>
            </a:r>
            <a:endParaRPr b="0" lang="en-US" sz="3200" spc="-1" strike="noStrike">
              <a:solidFill>
                <a:srgbClr val="ffffff"/>
              </a:solidFill>
              <a:latin typeface="Times New Roman"/>
            </a:endParaRPr>
          </a:p>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badi MT Condensed Light"/>
                <a:ea typeface="Times New Roman"/>
              </a:rPr>
              <a:t>Little touched by war before 1778</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353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badi MT Condensed Light"/>
                <a:ea typeface="Times New Roman"/>
              </a:rPr>
              <a:t>Hardships All Women had to fac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cc"/>
            </a:gs>
            <a:gs pos="100000">
              <a:srgbClr val="ff33cc"/>
            </a:gs>
          </a:gsLst>
          <a:lin ang="189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84872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badi MT Condensed Light"/>
                <a:ea typeface="Times New Roman"/>
              </a:rPr>
              <a:t>The choice of leaving their hom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7" name="PlaceHolder 2"/>
          <p:cNvSpPr>
            <a:spLocks noGrp="1"/>
          </p:cNvSpPr>
          <p:nvPr>
            <p:ph type="subTitle"/>
          </p:nvPr>
        </p:nvSpPr>
        <p:spPr>
          <a:xfrm>
            <a:off x="762120" y="1599840"/>
            <a:ext cx="7619760" cy="43434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Some women chose to leave with their children.</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a:t>
            </a:r>
            <a:r>
              <a:rPr b="0" lang="en-US" sz="2800" spc="-1" strike="noStrike">
                <a:solidFill>
                  <a:srgbClr val="ffffff"/>
                </a:solidFill>
                <a:latin typeface="Abadi MT Condensed Light"/>
                <a:ea typeface="Times New Roman"/>
              </a:rPr>
              <a:t>roads around Boston “filled  with frightened women and children, some in carts with their tattered furniture, others on foot fleeing to the woods. </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Others decided to sta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badi MT Condensed Light"/>
                <a:ea typeface="Times New Roman"/>
              </a:rPr>
              <a:t> </a:t>
            </a:r>
            <a:r>
              <a:rPr b="0" lang="en-US" sz="2800" spc="-1" strike="noStrike">
                <a:solidFill>
                  <a:srgbClr val="ffffff"/>
                </a:solidFill>
                <a:latin typeface="Abadi MT Condensed Light"/>
                <a:ea typeface="Times New Roman"/>
              </a:rPr>
              <a:t>Elizabeth Farmar also decided to stay in her house despite the fact that it lay between the lines during the occupation of the city in 1777- 1778.</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6:26:15Z</dcterms:created>
  <dc:creator>hswireless1</dc:creator>
  <dc:description/>
  <dc:language>en-US</dc:language>
  <cp:lastModifiedBy>Jenkins, Mark</cp:lastModifiedBy>
  <dcterms:modified xsi:type="dcterms:W3CDTF">2012-02-07T16:05:06Z</dcterms:modified>
  <cp:revision>4</cp:revision>
  <dc:subject/>
  <dc:title>Women In the Revolution</dc:title>
</cp:coreProperties>
</file>